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D20-85A1-4187-B6CA-3344918D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E2A-38BA-4BB2-8FAA-C7863D56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F48-DF31-4744-B834-FDFDDB85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A29-A333-40C1-B2C2-F375415F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C80F-9C04-42A6-AB52-1CB8E898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3752-4868-4544-8A80-FBD2E259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D5D-43E6-4674-BFB3-56A86B6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2937-CCA2-4371-94C2-0800C7A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61C7-77D1-4689-82D7-A008B118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B0DD-B813-4189-A5EA-F9DC1AFC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0786-EC65-416A-A85B-B505100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9CC-9D9B-4258-90AD-8AD7F4D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E31-B796-47CE-86F1-FD1749DB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458-7712-4DB4-B32D-53F929BF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76EE-8C5B-440D-A6C2-B84E6F82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CDD7-232B-4F35-85A8-A7DF1612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4D15-8104-4148-BDB1-F00313E1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FE1-B42A-4501-ACFB-70A2F441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DCE-D6DA-477B-B837-7F8E502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519-7ED1-46B7-8277-4F4B446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E33-4002-4397-8304-0E19C5F6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583-63E1-4D9D-A792-25696294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CBE-9106-4821-A144-F79333EB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AE9-5639-4ACF-9064-9C3F605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492E-EB7E-4EE1-8526-57DB5198AF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AFD-4FE6-4B84-9580-38E6700EB1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86;&#1074;&#1077;&#1090;_&#1045;&#1074;&#1088;&#1086;&#1087;&#1099;" TargetMode="External"/><Relationship Id="rId2" Type="http://schemas.openxmlformats.org/officeDocument/2006/relationships/hyperlink" Target="https://ru.wikipedia.org/wiki/1997_&#1075;&#1086;&#1076;" TargetMode="External"/><Relationship Id="rId3" Type="http://schemas.openxmlformats.org/officeDocument/2006/relationships/hyperlink" Target="https://ru.wikipedia.org/wiki/2000_&#1075;&#1086;&#1076;" TargetMode="External"/><Relationship Id="rId4" Type="http://schemas.openxmlformats.org/officeDocument/2006/relationships/hyperlink" Target="https://ru.wikipedia.org/wiki/&#1043;&#1088;&#1072;&#1078;&#1076;&#1072;&#1085;&#1089;&#1090;&#1074;&#1086;" TargetMode="External"/><Relationship Id="rId5" Type="http://schemas.openxmlformats.org/officeDocument/2006/relationships/hyperlink" Target="https://ru.wikipedia.org/wiki/2016_&#1075;&#1086;&#1076;" TargetMode="External"/><Relationship Id="rId6" Type="http://schemas.openxmlformats.org/officeDocument/2006/relationships/hyperlink" Target="https://ru.wikipedia.org/wiki/&#1056;&#1086;&#1089;&#1089;&#1080;&#1103;" TargetMode="External"/><Relationship Id="rId7" Type="http://schemas.openxmlformats.org/officeDocument/2006/relationships/hyperlink" Target="https://ru.wikipedia.org/wiki/&#1051;&#1072;&#1090;&#1074;&#1080;&#1103;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60;&#1080;&#1079;&#1080;&#1095;&#1077;&#1089;&#1082;&#1086;&#1077;_&#1083;&#1080;&#1094;&#1086;" TargetMode="External"/><Relationship Id="rId3" Type="http://schemas.openxmlformats.org/officeDocument/2006/relationships/hyperlink" Target="https://ru.wikipedia.org/wiki/&#1043;&#1086;&#1089;&#1091;&#1076;&#1072;&#1088;&#1089;&#1090;&#1074;&#1086;" TargetMode="External"/><Relationship Id="rId4" Type="http://schemas.openxmlformats.org/officeDocument/2006/relationships/hyperlink" Target="https://ru.wikipedia.org/wiki/&#1040;&#1087;&#1072;&#1090;&#1088;&#1080;&#1076;" TargetMode="External"/><Relationship Id="rId5" Type="http://schemas.openxmlformats.org/officeDocument/2006/relationships/hyperlink" Target="https://ru.wikipedia.org/wiki/&#1040;&#1087;&#1072;&#1090;&#1088;&#1080;&#1076;" TargetMode="External"/><Relationship Id="rId6" Type="http://schemas.openxmlformats.org/officeDocument/2006/relationships/hyperlink" Target="https://ru.wikipedia.org/wiki/&#1041;&#1080;&#1087;&#1072;&#1090;&#1088;&#1080;&#1076;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Тема: Основы</a:t>
            </a: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равового положения человека и гражданин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428640"/>
            <a:ext cx="60325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нятие, сущнос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ы правового статуса лич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жданство: понятие, принципы и признак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ы приобретения граждан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вовой статус иностранцев и лиц без гражданств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тус беженцев, временных переселенце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6870600" cy="8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нципы гражданст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268280"/>
          <a:ext cx="7696080" cy="50850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509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не ограничение прав граждан по признакам социальной, расовой, национальной, языковой или религиозной принадлеж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иного и равного гражданств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ыдача граждан другому государств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ние двойного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о изменить гражданст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можность лишения гражданства в особых случа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 не ограничение прав граждан по признакам социальной, расовой, национальной, языковой или религиозной принадлеж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диного и равного гражданства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ыдача граждан другому государств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о изменить гражданст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возможность лишения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ощрения приобретения гражданства Российской Федер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единство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твращение возникновения случаев без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знание права на смену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сти лишения граждан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хранение гражданства Украины независимо от места жительства граждани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возможности автоматического приобретения гражданств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остранцем или лицом без гражданства вследствие заключения бра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овой статус иностранце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 правовом статусе иностранцев и лиц без гражданства» от 22.09.20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едеральный закон "О правовом положении иностранных граждан в Российской Федерации" от 25.07.20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остранец - лицо, не состоящее в гражданстве страны пребывания и является гражданином (подданным) другого государства или государст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цо без гражданства - физическое лицо, не являющееся гражданином страны и не имеющее доказательств наличия гражданства (подданства) иностранного государ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Заграничные украинцы» и «соотечественни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4126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Заграничный украинец 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 это лицо, которое является гражданином другого государства или лицом без гражданства, но имеет украинское этническое происхождение (украинское этническое происхождение - это принадлежность лица или его предков к украинской нации и признающих Украину родиной своего этнического происхождения). Основными особенностями, которые отличают сегодня правовой статус заграничного украинца от правового статуса иностранцев и лиц без гражданства, является порядок въезда и пребывания на территории Украины, а также процедура упрощенной иммиграции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отечественни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99640" y="1557360"/>
            <a:ext cx="7696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ударственная программа по оказанию содействия добровольному переселению в РФ соотечественников, проживающих за рубежо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отечественни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— лица, родившиеся в одном государстве, проживающие, либо проживавшие в нём и обладающие признаками общности культурного наследия, а также потомки указанных лиц по прямой нисходящей ли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ля соотечественников выделено три категории вселе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А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преимущественно стратегически важные для России приграничные территории. Переселенцам на территориях данной категории государственные гарантии и социальная поддержка, предусмотренные для участника Гос. программы и членов его семьи, предоставляются в полном объем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Б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территории, где реализуются крупные инвестиционные проекты, требующие массового привлечения переселенцев. Переселенцам на территориях данной категории предоставляются государственные гарантии и социальная поддержка, за исключением ежемесячного пособия, выплачиваемого при отсутствии     дохода от трудовой, предпринимательской и иной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 запрещенной законодательством РФ 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атегория «В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носятся территории с устойчивым социально-экономическим развитием, на которых в течение последних трех и более лет наблюдаю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кращение общей численности     населения и (или) миграционный отток. Переселенцам на территориях данной категории предоставляются государственные гарантии и социальная поддержка,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усмотренные для участника Гос. программы и членов его семьи, за исключением ежемесячного пособия, выплачиваемого при отсутствии дохода от трудовой,         предпринимательской и иной не   запрещенной законодательством РФ деятельности, и «подъемных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оритетными регионами являютс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байкал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ят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мчат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орь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асти Амурского кр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абаровские об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ркутские и Магаданские регио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хал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2017 года 47 регионов готовы принять соотечественников, которые будут пользоваться максимальным уровнем господдерж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ежен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 беженцах и лицах, нуждающихся в дополнительной  или временной защи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 от 08.07.201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едеральный закон РФ от 19 февраля 1993 г. N 4528-I "О беженцах«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венция о статусе беженц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нята 28 июля 1951 года Конференцией полномочных представителей по вопросу о статусе беженцев и апатридов, созванной в соответствии с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золюцией 429 (V)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 Генеральной Ассамблеи от 14 декабря 1950 г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54936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еженец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лицо, не являющееся гражданином страны и вследствие обоснованных опасений стать жертвой преследований по признаку расы, вероисповедания, национальности, гражданства (подданства), принадлежности к определенной социальной группе или политических убеждений находится вне страны своей гражданской принадлежности и не может пользоваться защитой этой страны или не желает пользоваться этой защитой вследствие таких опасений, или, не имея гражданства (подданства) и находясь вне страны своего прежнего постоянного проживания, не может или не желает вернуться в нее вследствие указанных опас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нужденные переселен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128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Украины «Об обеспечении прав и свобод внутренне перемещенных лиц»  в ред.20.04.201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кон РФ от 19.02.1993 «О вынужденных переселенцах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еждународное Соглашение о помощи беженцам и вынужденным переселенцам от 24 сентября 1993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187280" y="1862280"/>
            <a:ext cx="705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авовой статус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это система закрепленных в нормативно-правовых актах и гарантированных государством прав, свобод, обязанностей, ответственности, в соответствии с которыми индивид как субъект права, (т.е. имеющий правосубъектность) координирует свое поведение в обществе.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нужденными переселенца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могут быть признаны: гражданин России, который покинул место жительства на территории одного из субъектов Федерации и прибыл на территорию другого субъекта или вынужден покинуть место жительства на территории иностранного государства и прибыл на территорию России; иностранец, лицо без гражданства, которые покинули место постоянного жительства на территории одного из субъектов Федерации и прибыли на территорию другого субъек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нутренне перемещенным лицом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вляется гражданин Украины, который постоянно проживает в Украине, которого заставили или он самостоятельно покинул свое место жительства в результате или во избежание негативных последствий вооруженного конфликта, временной оккупации, повсеместных проявлений насилия, массовых нарушений прав человека и чрезвычайных ситуаций природного или техногенного характе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иды правовых статусов личности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общи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- статус лица как гражданина государства закреплен в Конституции и конституционных закон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специальны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- статус лица как представителя той или иной социальной группы который наделен согласно законов и иных нормативных актов специальными, дополнительными правами и обязанностями 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ндивидуальн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- статус лица как индивидуума, который составляет персонифицированные права и обязанности в их конкретных, природных и приобретенных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собностях и особенностя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РАЖДАН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кон Украины «О гражданстве Украины» от 18.01.2001 года ( в ред. 19.02.2016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едеральный закон РФ от 31.05.2002 (в ред. 29.07.2017) «О гражданстве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ект Закона ДНР «О гражданстве Донецкой Народной Республики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Европейская конвенция о гражданс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— конвенция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овета Европ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нятая в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1997 год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и вступившая в силу в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2000 году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Регулирует условия и процедуры приобретения, утраты и восстановления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гражданств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нципы действий в случае преемственности государств или множественного гражданства. На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2019 год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21 государство является участником конвенции; еще 9 её подписали, в том числе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Росс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 </a:t>
            </a: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Латв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подписала конвенцию, однако в 2012 году Сейм отклонил ратификацию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1187280" y="597240"/>
            <a:ext cx="6480360" cy="51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Гражда́нств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— устойчивая политико-правовая связь 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граждани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и 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государ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выражающаяся в наличии взаимных прав, обязанностей и ответственност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П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гражданин (подданный), беженец, вынужденный переселенец, «соотечественни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ап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(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лицо без гражданств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— лицо, которое не рассматривается в качестве гражданина каким-либо государством в силу его зако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бипатрид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— лицо, имеющее доказательства наличия у него гражданства двух государств. Бипатридами также обычно называют и лиц, имеющих более одного граждан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пособы приобретения граждан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Organization Chart 19"/>
          <p:cNvGrpSpPr/>
          <p:nvPr/>
        </p:nvGrpSpPr>
        <p:grpSpPr>
          <a:xfrm>
            <a:off x="682560" y="1812960"/>
            <a:ext cx="7632360" cy="3599280"/>
            <a:chOff x="682560" y="1812960"/>
            <a:chExt cx="7632360" cy="3599280"/>
          </a:xfrm>
        </p:grpSpPr>
        <p:cxnSp>
          <p:nvCxnSpPr>
            <p:cNvPr id="161" name="_s1028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5622480" y="2127600"/>
              <a:ext cx="720360" cy="296856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1029"/>
            <p:cNvCxnSpPr>
              <a:stCxn id="165" idx="0"/>
              <a:endCxn id="163" idx="2"/>
            </p:cNvCxnSpPr>
            <p:nvPr/>
          </p:nvCxnSpPr>
          <p:spPr>
            <a:xfrm flipV="1" rot="16200000">
              <a:off x="4632840" y="3117240"/>
              <a:ext cx="720360" cy="98928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30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3643920" y="3117240"/>
              <a:ext cx="720360" cy="99000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31"/>
            <p:cNvCxnSpPr>
              <a:stCxn id="169" idx="0"/>
              <a:endCxn id="163" idx="2"/>
            </p:cNvCxnSpPr>
            <p:nvPr/>
          </p:nvCxnSpPr>
          <p:spPr>
            <a:xfrm flipH="1" flipV="1" rot="5400000">
              <a:off x="2654280" y="2127600"/>
              <a:ext cx="720360" cy="2968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1032"/>
            <p:cNvSpPr/>
            <p:nvPr/>
          </p:nvSpPr>
          <p:spPr>
            <a:xfrm>
              <a:off x="3650760" y="181296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о рождению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филиация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_s1033"/>
            <p:cNvSpPr/>
            <p:nvPr/>
          </p:nvSpPr>
          <p:spPr>
            <a:xfrm>
              <a:off x="68256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«право почвы»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266112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«право крови»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5"/>
            <p:cNvSpPr/>
            <p:nvPr/>
          </p:nvSpPr>
          <p:spPr>
            <a:xfrm>
              <a:off x="464004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Смешанный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инцип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_s1036"/>
            <p:cNvSpPr/>
            <p:nvPr/>
          </p:nvSpPr>
          <p:spPr>
            <a:xfrm>
              <a:off x="6618960" y="39726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о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следованию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Organization Chart 7"/>
          <p:cNvGrpSpPr/>
          <p:nvPr/>
        </p:nvGrpSpPr>
        <p:grpSpPr>
          <a:xfrm>
            <a:off x="611280" y="765000"/>
            <a:ext cx="7632360" cy="3599280"/>
            <a:chOff x="611280" y="765000"/>
            <a:chExt cx="7632360" cy="359928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51200" y="1079640"/>
              <a:ext cx="720360" cy="296856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V="1" rot="16200000">
              <a:off x="4561560" y="2069280"/>
              <a:ext cx="720360" cy="98928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3572640" y="2069280"/>
              <a:ext cx="720360" cy="99000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5"/>
            <p:cNvCxnSpPr>
              <a:stCxn id="179" idx="0"/>
              <a:endCxn id="173" idx="2"/>
            </p:cNvCxnSpPr>
            <p:nvPr/>
          </p:nvCxnSpPr>
          <p:spPr>
            <a:xfrm flipH="1" flipV="1" rot="5400000">
              <a:off x="2583000" y="1079640"/>
              <a:ext cx="720360" cy="2968920"/>
            </a:xfrm>
            <a:prstGeom prst="bentConnector3">
              <a:avLst>
                <a:gd name="adj1" fmla="val 158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6"/>
            <p:cNvSpPr/>
            <p:nvPr/>
          </p:nvSpPr>
          <p:spPr>
            <a:xfrm>
              <a:off x="3579480" y="76500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я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(укоренение)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57"/>
            <p:cNvSpPr/>
            <p:nvPr/>
          </p:nvSpPr>
          <p:spPr>
            <a:xfrm>
              <a:off x="61128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Принятие в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гражданство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8"/>
            <p:cNvSpPr/>
            <p:nvPr/>
          </p:nvSpPr>
          <p:spPr>
            <a:xfrm>
              <a:off x="258984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В результате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вступления в брак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56876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усыновление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6547680" y="2924640"/>
              <a:ext cx="1695960" cy="143964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Автоматическая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я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есовершеннолетних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детей в случае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натурализации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х родителей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6840360" cy="9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становление гражданст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интеграция — восстановление в гражданстве какого-либо государства лиц, ранее его имевших и затем утративших. Смысл реинтеграции чаще всего состоит в процедуре, которая в этих случаях применяется. Может предусматриваться в специальных законах и в обычном законодательстве о гражданстве. В последнем случае она может рассматриваться как разновидность натурализ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патриация (лат.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repatriat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— возвращение на родину. Термин обычно употребляется в отношении военнопленных, перемещённых лиц, беженцев, эмигрантов с восстановлением в правах гражданства или возвращение в страну проживания застрахованного при наступлении страхового случ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604836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ие способ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76964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птация — выбор лицом гражданства при изменении границ государств. Процедура оптации регулируется международными договорами таких государст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нсферт — переход населения какой-либо территории из одного гражданства в другое в связи с передачей территории, на которой оно проживает, одним государством другом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Дарование гражданств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— обычно почётное дарование гражданства лицу главой государства за какие-либо заслуги (если подобное предусмотрено законодательств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13:46:41Z</dcterms:created>
  <dc:creator>Squall Leonhart</dc:creator>
  <dc:description/>
  <dc:language>en-US</dc:language>
  <cp:lastModifiedBy>PackardBell</cp:lastModifiedBy>
  <dcterms:modified xsi:type="dcterms:W3CDTF">2023-10-24T08:16:58Z</dcterms:modified>
  <cp:revision>20</cp:revision>
  <dc:subject/>
  <dc:title>Тема: Основы правового положения человека и гражданина в Донецкой Народной Республике. Гражданство.</dc:title>
</cp:coreProperties>
</file>